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CCB8-21F9-4CF7-8175-2474046D1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7D18-9134-43FF-92B5-AEF784C9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E80D-0270-450E-924B-4910C601F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3BFF-75DB-4FFB-AB03-774B1C093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0DC7-ADA2-43F2-A63D-E85F7472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727B-DB9B-4AEC-AAE8-4F6853A7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D470-39F6-453E-9FC7-882AC87D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C333-EBE5-4DDE-B6D3-FF574C4C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1475-E500-40AB-9433-1969C27E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713F-ACF0-4738-94B7-7CD920EC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A286-A2B0-41E9-B86B-E6B5DF9C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7D62-62A1-435B-9815-48EF9CC0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0865-0DFE-44D9-AAA7-B5F1236FE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0920" y="1630080"/>
            <a:ext cx="8893080" cy="515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89</a:t>
            </a:r>
            <a:r>
              <a:rPr b="1" lang="bg-BG" sz="44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ff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Да ти бъде Бог спасение, Всемогъщият - щит твой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Ти под Неговата сян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си почивай, не се бо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Там в блажена безопасно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тих и мирен остан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Ни измама, ни насил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може да те докач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3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350800"/>
            <a:ext cx="9144000" cy="448308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2. Той от примки те избав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и от мор сред тъмнин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и от меч, кога погиб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запустява в пладнин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Бог ще е защита тво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в безопасност ще си 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и когато окол те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падат хиляди и тм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4920" y="-384120"/>
            <a:ext cx="9144000" cy="722628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3. Бог за теб ще заповя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и на ангелите С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да не би да се препъ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някога ногата 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Благодатно ще те вод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Йеова в тоз земен път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сам Той ще те увенча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горе с вечния живот!</a:t>
            </a:r>
            <a:r>
              <a:rPr b="1" lang="en-US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09:28:48Z</dcterms:created>
  <dc:creator>TrifonTrifonow</dc:creator>
  <dc:description/>
  <dc:language>en-US</dc:language>
  <cp:lastModifiedBy>TrifonTrifonow</cp:lastModifiedBy>
  <dcterms:modified xsi:type="dcterms:W3CDTF">2005-11-22T09:02:57Z</dcterms:modified>
  <cp:revision>8</cp:revision>
  <dc:subject/>
  <dc:title>Slide 1</dc:title>
</cp:coreProperties>
</file>